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</p:sldMasterIdLst>
  <p:sldIdLst>
    <p:sldId id="256" r:id="rId25"/>
    <p:sldId id="257" r:id="rId26"/>
    <p:sldId id="258" r:id="rId27"/>
    <p:sldId id="25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" Target="slides/slide1.xml"/><Relationship Id="rId26" Type="http://schemas.openxmlformats.org/officeDocument/2006/relationships/slide" Target="slides/slide2.xml"/><Relationship Id="rId27" Type="http://schemas.openxmlformats.org/officeDocument/2006/relationships/slide" Target="slides/slide3.xml"/><Relationship Id="rId28" Type="http://schemas.openxmlformats.org/officeDocument/2006/relationships/slide" Target="slides/slide4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6CA79-7030-4C12-905F-B8C38D2B3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83A3B-F5B2-4FCD-BE4D-DBA2A7CEB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6CA2CA-B4E5-44CD-BE7F-D7714CC52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6E7535-E150-4B8D-B362-6EE0D9749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ACFB61-1D09-465F-A013-5CACFB174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44D574-93B2-497F-BF15-75CA73E59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A5F12D-8AE7-494E-8E5C-436C34A25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A314C5-CA05-4583-92F8-20A72F6F4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3F33CB-5C13-40FA-889A-95628D904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D56378-B4E0-4AC5-A313-BF9F656F6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4645FA-E2E5-4F0A-A9C6-4297CC32F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3D8D7E-7869-40B3-93DC-021A8AD77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260B6-0E61-4B6D-ABED-53887D45D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3E5C35-ADC9-42C0-AA6F-D8A05FE5D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AE9296-868F-4968-ACAF-B088A69D7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96CD8B-9F61-4D95-B25C-8B70EAF4F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7C579C-FF41-4304-88AB-23E956323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B046F4-7716-4D4F-9EBB-9FCE872F2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C6196C-0A87-405B-A5C3-42741D671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31606D-406B-4E1F-A9DD-8722D3E1A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075959-6BDF-4F7C-AFD6-CB568B89A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4395B8-9FE9-4899-A4E5-BB05533EA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646D88-4EC0-44FD-83A2-A92F574C4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6E664-1B13-4D72-AE36-D86565776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36B234-C99E-4E96-8974-AAFA01708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638E63-CF31-44B8-BFFF-588D3594C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1A7CB7-FBF4-4947-AA49-DE0D426AB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2B56EF-E8F0-4B3C-961B-BE7980FB2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931A2B-9AC6-4901-87EA-873B4DB95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8D8023-D351-482C-AD17-8DD458F53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80F579-E836-42F2-8BAD-A86567764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5CF90C-F6BA-4ECA-88BD-A59C1B70D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05628A-D211-4A93-A3EA-303518A80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6BDA33-E414-431B-BEAF-C72CC4F66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B855E-2178-40DC-B807-D33B2C9B5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F88342-DDD8-46FF-BC1C-0D96FD36C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EB76D4-8F3E-4494-BB50-5A04E9BBE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D415B8-011D-4494-8ACA-F7260F744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3FA36C-5FBC-45E0-A42D-E8EF84A86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152049-1706-41F7-86FF-92CE947D0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E28236-A4CA-4511-8F16-079A53826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87D07B-3E3D-4337-92C9-D5B31D382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8048F8-1F2A-4F65-923A-3DE3D7AF0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DDC4BF-BA0A-49E0-92A2-A9BEA96FF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F081AD-AC45-4E23-B4DE-FBE3FD3D9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BA4F6-A492-4C64-9C0F-3437C3DC1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5F010B-F1F4-4011-A1DB-6C492F616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8E76B4-6876-40CF-86D5-51A59D320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B7FEBB-3E02-4A73-9490-9A1B6FFA1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335E1E-8818-4276-8D67-E1E2B3B10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EA9BC4-8C8A-498B-BA79-801491663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6FD21F6-AB85-4A41-8621-0711E5596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D21684B-BF5B-43E0-9F4C-5FC33EE64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CAD16A4-9605-45DA-A2DA-362D9DA55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81779C2-8B90-4983-AF16-1AF39783C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6CEA6D6-0F3A-4251-A76E-F738A737D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714BB-C3A4-4956-8632-1408C6891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7830398-A387-483E-86D7-FB6D8D2C6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01025EB-1C00-443C-A722-6FF10DBD2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BDF9056-759F-4A7A-ADBF-D28D021E6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C79297D-770E-45F6-A90F-7C9C82BBF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814004A-1928-4591-B92B-C8153E2AB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CE54734-DCCF-4487-B85A-BF8855244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0A2188D-8471-4587-8A78-A3442C277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DFC8E70-3489-43D6-AE09-98FA8645B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35648BB-026F-48C1-BEFF-B84DED157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4E07F06-C714-42D8-AA04-F7C1C7457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35BE9-36E4-4C70-BA60-D30E90669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64FE0CB-B9BB-4A22-B75F-BF05F7E8B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92021A4-5105-49D8-A1CF-ADD6082B0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C04F23F-46DD-4E32-A5D5-E1546BE82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A61D9E5-78CB-4607-83B2-11220FFD8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FC891F7-2FC3-4A20-BA87-17DA882B6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2C1D502-4CCA-46A9-AA00-981339338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BF4EF8F-DAAD-4367-9FFB-3AADF8FDC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060A605-D537-4E79-A3BE-39ED3464D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A3A2B87-A56E-40CD-9D84-42C3356A5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0E3BFC7-C16E-4402-B149-5D51DE9BD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29C80-04BE-4ECB-9C65-477BA1802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3DA9465-775E-4B51-8F7D-7C6CD95D0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E52072E-FEBD-4D07-8A8C-78E6E0501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83799EF-DA57-420C-B85E-9D1C6E132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F5E86EF-89A4-4325-A39D-D0B32093F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01B48A3-61EE-426E-8C6E-23D1CD786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EAE7EB5-9997-4B7F-8F18-72978C893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3053B79-9B03-4064-8596-02826A722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61C35C9-96F4-4186-A06F-5D55D37DD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5C3468B-6D55-445F-A85F-8C720BC0B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1D2E7A6-B312-4A97-8C46-E5EC00344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B1E5B-82E9-4381-9ECC-6FF3FF494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B14FAA4-4ABC-409E-8A02-29298AF72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613123A-0473-453B-9EC5-A4349505A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CD4997E-F326-41F8-9E32-A433A6FC4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88DEA44-7FCD-4568-930C-ACC54C016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6E23B80-CE88-4884-AC87-A45638C78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686D089-8DC7-47F3-B540-9EE1F9054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912E708-6670-49A6-A64E-F0424A8AB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A6FDEBE-F6DA-4FDD-B65D-5EB8E1E22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784DE41-25ED-4CBF-8FCF-BAAC96602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8800A29-8FEC-4659-8F1D-514870625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D3377-EAC1-4A02-8B76-678EFF733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9EFAE9F-BB73-42D5-9124-F2CC084DD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4257845-BDAF-4402-9A9E-AA6C8055C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D14D44C-7107-49FA-9CBB-A2CDA6D58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3E3E051-7444-47D4-8B81-9A7075B34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9848FC4-4E5F-42A9-BE28-45A011357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FC1B053-ACBE-4A7C-8D55-77D85D214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DD1B720-7008-4BD3-90D7-68F16E0A7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F11A56A-1FD1-4E06-A5DA-656F9B209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817AA4C-D649-4DBA-A428-0BE6F61FE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B241DAE-5FC7-46D2-8522-ADA47636B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5CB7C-6790-4658-B0BE-3C933A165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DECC8-78B0-4D52-91A9-4AF3F8B2C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30DB07F-C933-4D26-8B90-5BBB70293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2632550-F8D3-463B-900A-DE0292353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B927366-AB04-4723-9479-558796B32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36DB372-7C38-4659-8B5E-17CF51392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25047AC-75CD-47FA-B063-69A3F9A0C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596005B-5ADC-4749-B2A1-378ADA157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130BDA3-FFE5-47DF-A8D4-6805EDA97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584A322-F742-481D-BD73-EAD68CB84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595950C-9815-4695-AB26-45AF6EA42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A41A62E-4877-4298-980E-1C42A84F2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7AB59-52F6-44D5-9635-36FE5AE73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C1FD7DE-EDAE-4E9F-98F6-484377C51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08675C7-686B-44D0-B7EB-D34C708A8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C2726C4-7333-4ABA-8673-076A38EBC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3D2BA22-8C66-451B-9873-574BD820E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5264759-AB81-43D5-BBA2-B9D61A544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EC234B1-4E40-4835-ACCB-0BDE9B251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225ABB2-8938-4EAF-B09B-35236BB29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998EB29-72E0-4B6D-9550-1F3282EA2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C81710C-3E88-47EC-926F-4CC4167B7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CEA3EAB-3AC0-40C6-AD1C-0D32D9CB5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BD1FC-CB1C-4059-A60B-8FA541B1F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70FF3A1-2ACD-436B-A607-F7EF83801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5659EF6-436A-4FC1-97ED-88DB20CBB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92909F7-C80A-4DEE-9F87-28684A968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FDF6A55-257E-4855-8E7C-C6F88BC3A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B1AC518-6AD7-4C2A-8690-08922E5C6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27E126D-A633-4E32-9539-18976AEA4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952F1D4-E1F3-4BBF-B134-E876198C6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48B5066-DA11-4F74-B3E2-FAA3F7C9A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C2D97DA-FFC0-4D39-928E-03E3DC9B2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E5E485D-2987-423D-865B-BCFCC7036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D9187-4333-44F5-9E56-C8ABD7798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4D63674-7E89-4B88-B849-FB9D03C46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3EBB1C8-5B18-4408-A528-E05B0B01D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6379CE8-78A0-4D51-88F7-613606F3E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72F0EFA-3637-424D-B3C4-47A028419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EEB2F21-3FA8-4FA2-94AB-EAACD0329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893E52D-A58E-4886-B186-C5AD59E3F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FFDCBB6-530E-4A93-A68E-6DA2D3118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714A313-F8E1-4771-9902-5E0693E45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C3B7727-EA72-4C1D-9A4A-C6F0E6550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A398FD8-4758-4BBC-AB6C-AB8970AB3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82A5B-7F2A-475A-BE31-0B9968DFB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4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98E3F07-22AD-46D0-9FC3-A0BA9C4EC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30676D7-02B0-4FF5-ABB7-4328C5FE7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A66EDA7-AAAB-45FD-97BF-7C01FC510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2251305-4304-47B0-A72D-4C1EE2797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C84883B-CBA1-4020-B488-3043F6E54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CE490F5-3D0F-4047-B21E-92A12211A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DCF0ADD-66D2-45E1-883A-76F64C72D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31E77ED-B3EE-4902-A4AC-B4F9FBC4A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77618EA-49E6-4858-B0D8-5D928C057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A0E2A78-AF44-49FF-9488-A4C53E60B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468184-A2DE-4559-A8AD-0B1E23D83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9A8D51C-BAA3-4583-BE68-E4EBB1D84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41DF252-974E-494F-924A-51093FB4C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0BF4E4E-4D44-4141-AA34-BF63930FB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FE04E19-DDA5-45FE-ABA6-A8C3F3211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68F57E2-1CAD-4A2E-A44B-B8706456E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DECA233-2AF6-415B-A66C-41D5DAC25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F753045-BC06-4B01-8934-5534F6DD7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6F32608-C19A-4475-94CA-B237FAF59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84FB536-F8AC-4F6D-B483-0CF3B7B0C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4DCF2A2-1AA0-4536-A6F4-416BE933B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1EA181-824C-4F88-97FA-3456A258C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81038D7-12F4-4B0C-8463-4E84C8D78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C979E5F-BF6A-4BC1-9187-D81C3E115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A758952-78B8-4C67-A696-E7FE9D2B5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B8CAC53-6276-4773-A4A7-18DB4A6FC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C02E71E-7A75-4B75-8206-263350BB2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A97CF1D-F64D-4A8C-80F3-DB7E2A47C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65716B5-9AEF-4280-B41A-277255D60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5A11374-3E1B-4117-B2ED-9F2744AF6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9EFC80C-DB2E-4E67-8DFD-46BCC4662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A660391-6567-4FB1-8F4A-B0DF01C00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4750BD-448D-4565-89A6-72532FD5B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75EAF53-3337-46B4-98B0-D978B0F86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389F7BA-F1A9-4932-B8A2-C7EE4BABA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1541030-B721-455A-B0D6-706FCE88C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ED25C6A-45B8-48AC-A5AB-46DC7D971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5D1DC49-7083-48E0-A13C-FAB788C0E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3FA4684-1229-4ADE-81C2-E20F57072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5AD9DC9-9ECF-47B4-8BB4-C3E371E95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EC8254-4623-47A2-A0D9-6E4233F91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1E38AB-B7DD-4767-A74A-679C74BCA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38DDF-E531-4644-834C-7534DBF4F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1A728F-A2BE-475E-A032-30C854DA5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E058E6-5A43-44D6-B406-D4B0DDDC6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3407D6-0E75-4B75-AAB5-EAB0D7486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336B03-66D9-45C9-8583-5EFA173B3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662CFC-41B1-44D3-A447-8BB1C9B58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A4B261-F78E-4DA9-B07D-CC4EBB234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55C3B0-C3AB-4192-B81B-2C6C29A97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DC8321-0697-47BB-842B-5BC50A3F2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E7C46C-9D56-4452-A7D4-1374C204F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C2A759-BD9B-47EB-94D2-3DE17B237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CAA64-B273-4FCE-890F-88B276C43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DEBB81-5A4D-458A-BACD-D99474952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FBF318-DE6C-4C7A-8A6E-E082674D7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9C2DB3-6403-4FF1-8C20-393A839C9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67A611-6F42-4251-A3FB-EEA3382E9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728F07-BDC1-4464-AB38-7441A3FE7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B72267-528F-4D83-A22E-D237B44B2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C6503B-CBA6-4432-93F8-4627DF24F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8F5175-1F83-4326-AC9E-B07D27563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21AE33-AC3F-4908-B07A-C4AFF623B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A92FF0-9AF4-4257-B90A-A7E901B2D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6D3B8-5B98-4B76-A9AB-BBFF66C17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FD4139-24F4-4455-9BF6-E4A85FB90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F775B7-AE90-43F0-9A9D-D7814F47E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7190E0-5EE7-4575-BDAC-66E3D7017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0F1EBD-58FB-4CFB-9D1B-5FADDBA65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1CE4A8-FF7A-4987-AA60-DFB4898A6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3341AE-7ECD-42AD-9450-7701429A8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2E0220-2050-4C25-B646-314D7F6BD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20056E-677B-4D1A-9CFD-CDB154125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0617D5-6DA1-415E-A5AC-05A0698B2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C845B6-4DE7-4CBB-8377-F32228562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7940E-5F4F-4688-A508-CE5B5C45D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CC945D-CDE4-4569-B0C5-FAC43CCB0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3BD0A2-F11C-4D54-BA45-7AAA61FDC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6D7C00-CE14-4A8C-8109-C9241B969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73AAC0-F2CE-41AF-A5D8-563C674F1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8350A1-91E0-45C4-B8EB-172FE831B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8572D2-2347-4FEC-B8A7-158E01649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9F2A21-83DD-4212-A9AA-98A23F8C8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7F44CD-5DBF-4393-A677-3F6FC620E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2C48B7-81FC-4904-9BEC-204261383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36BB89-0A8F-47A6-8804-6FB61AF63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786D0-299B-4147-BEBB-4DD3CFE4C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A69FCA-E986-4122-A18D-1ADB4BF9C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88CC9B-D90D-4A58-AB40-CD9B3D504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36A424-FF89-4149-A638-CD23526DC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E7673C-635E-429B-A74D-CC8AE288A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A09031-1041-4CEB-8EAD-5CED72C55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FA03E3-6620-45EE-9414-191C45011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B55006-AEE0-4AC4-AC4C-D0734D301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7EA94A-CB24-4180-94BA-A3B353EE4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6A914A-4195-4C19-91E4-C46279A82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86C849-7415-4F8B-B3B7-872018679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B633A-7A44-44CF-9B0F-23F921B06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48340A-77AA-46FB-B226-CD15F198D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B3B444-AD57-4A9A-BA34-07D6A3855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2597F4-7E63-4AB3-80F3-6863EC6AB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CD5EA5-70E5-46AC-B7AF-0A00DAF78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529531-B8AD-4A20-BCB1-C5705532E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929227-3BBD-43DF-9BA6-8751DA15B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25938E-B013-4521-A570-FEC5FAC5A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89DCB8-0892-44E4-8A8A-BA8182D03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8D6F9B-BC31-4F50-AD54-B73CE3ACD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FC6CAA-C412-4971-A25A-D63484942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46484-0F7C-430D-8596-35DEB3812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BA29D5-3148-46DE-A050-68FD95928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48C211-3A59-4C5B-94C1-482A3E5B3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A288B4-59FD-43D2-8995-8F7C908F8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F5AD07-92CA-4275-B98F-D719C092A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9B3001-F928-468E-B3BD-B2F0B2B6E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6EB787-2264-4EA7-B538-931746743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0540BB-4627-47F4-ADAF-B0BC1DB87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D62035-2223-4355-B48B-7915AC998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3185AB-4CDF-4D24-B72C-3899B7F05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72A274-9836-46D5-8F1A-0C4E3821F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9AF61-276D-46FE-841B-CD73D54BC76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DAEBC-C8B8-4B3A-9621-EF886867858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5842F-42AD-4B4F-84CA-C6EC319658B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452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3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454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7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458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1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3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474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475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476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7AC37-ECCE-4271-BE01-98A8E6C1106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556DC-DA7F-4632-B6DF-FE8EEB0667E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ADF19-032B-41A0-A1B9-0E9B611EFFE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F6F0E-9ECB-4821-9229-EEBEAED6A26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282B3-F302-4F58-983B-517297D3087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18550-E83E-4D41-B082-144A1C24EFF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4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6C097-628C-4999-9666-5154E2E728E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E90C1-518C-498E-8F29-A2BB6DF1EC3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7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4BF02-A7FE-41D2-B3F5-255D8133EA3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4CD1F-9C4C-474E-B272-4E52DDFC28D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1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92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93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94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95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96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7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98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99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01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702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7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708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1E63D-05B7-4C36-9CC6-F4AC222F062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5C24D-FECB-4EEF-887F-13851B55CBB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3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754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755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0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761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4EA8D-FA64-47EC-93DD-96035A8C6E6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9669E-2F17-40E8-9BE5-795FADA6FC8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7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7DD28-0B55-4FC8-BEA6-4841DC07206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92E7D-6F3D-48D8-B933-028F86D04EB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1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852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853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4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5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6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7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8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859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97930-684E-42D9-BE8D-20CAD9D36AC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BE2F1-4D87-4E5C-9A51-04A10AEE569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9A02D-654B-42C2-927C-36651B55A1DA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5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206E0-A08D-4DB6-A332-BB92AA586B4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9CA3E-4FCF-4507-8278-99777DB9A4E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9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950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951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2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3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54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955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6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7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90E0F-54AB-43CD-B14D-EFD86DEFD8D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242E8-3A1F-4CCA-8B9E-5207DE3FD41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1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8003F-741B-43AB-8BA5-3434CB117DA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5E61F-89A5-4A1D-B10A-5DE07136DD3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5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1046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1047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48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1049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0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51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1052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3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54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1055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1056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7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8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9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0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1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1062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3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4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 type="dt" idx="6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EE4AD-5D8D-4154-AC1E-82C4F341416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 type="ftr" idx="6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 type="sldNum" idx="6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0ADF8-5239-4E9A-80E6-75AB721AB62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1F3EC-6E95-4BCC-9F3B-DF424F9C311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C6CAC-CBEA-443F-8019-1117982A07C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FAE43-E9F5-4623-9949-952B25EAE9F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68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FBCCC-F0BD-42A2-AFC3-F7ABB1A2063E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212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213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215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221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EC951-41CF-40C7-8A46-D5990EF8A7A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FAD2A-4B98-48B9-92F6-7C98ADE3C3B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465BF-F7C7-4F0F-8476-90CBDBFE0AD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ED8BD-30F6-4678-A88E-DA2D9C932C0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310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311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312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7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318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21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C704B-DE98-4C02-81D2-2575ABAF29B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F1D59-DB1F-45C9-A6C0-0B5EF9C1B48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DC0DF-2F0D-43A0-BFEA-7E16F1A0F36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BF3D4-1368-445D-AFFF-44549190277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image" Target="../media/image14.png"/><Relationship Id="rId11" Type="http://schemas.openxmlformats.org/officeDocument/2006/relationships/image" Target="../media/image14.png"/><Relationship Id="rId12" Type="http://schemas.openxmlformats.org/officeDocument/2006/relationships/image" Target="../media/image14.png"/><Relationship Id="rId13" Type="http://schemas.openxmlformats.org/officeDocument/2006/relationships/image" Target="../media/image14.png"/><Relationship Id="rId14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image" Target="../media/image14.png"/><Relationship Id="rId11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6" name="图片 1" descr=""/>
          <p:cNvPicPr/>
          <p:nvPr/>
        </p:nvPicPr>
        <p:blipFill>
          <a:blip r:embed="rId1"/>
          <a:stretch/>
        </p:blipFill>
        <p:spPr>
          <a:xfrm>
            <a:off x="952560" y="2871720"/>
            <a:ext cx="7238880" cy="11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7" name="图片 1" descr=""/>
          <p:cNvPicPr/>
          <p:nvPr/>
        </p:nvPicPr>
        <p:blipFill>
          <a:blip r:embed="rId1"/>
          <a:stretch/>
        </p:blipFill>
        <p:spPr>
          <a:xfrm>
            <a:off x="216000" y="312840"/>
            <a:ext cx="1790640" cy="285480"/>
          </a:xfrm>
          <a:prstGeom prst="rect">
            <a:avLst/>
          </a:prstGeom>
          <a:ln w="0">
            <a:noFill/>
          </a:ln>
        </p:spPr>
      </p:pic>
      <p:pic>
        <p:nvPicPr>
          <p:cNvPr id="1108" name="图片 2" descr=""/>
          <p:cNvPicPr/>
          <p:nvPr/>
        </p:nvPicPr>
        <p:blipFill>
          <a:blip r:embed="rId2"/>
          <a:stretch/>
        </p:blipFill>
        <p:spPr>
          <a:xfrm>
            <a:off x="216000" y="666720"/>
            <a:ext cx="8885160" cy="6170760"/>
          </a:xfrm>
          <a:prstGeom prst="rect">
            <a:avLst/>
          </a:prstGeom>
          <a:ln w="0">
            <a:noFill/>
          </a:ln>
        </p:spPr>
      </p:pic>
      <p:pic>
        <p:nvPicPr>
          <p:cNvPr id="1109" name="Picture 1" descr=""/>
          <p:cNvPicPr/>
          <p:nvPr/>
        </p:nvPicPr>
        <p:blipFill>
          <a:blip r:embed="rId3"/>
          <a:stretch/>
        </p:blipFill>
        <p:spPr>
          <a:xfrm>
            <a:off x="468360" y="692280"/>
            <a:ext cx="360360" cy="290520"/>
          </a:xfrm>
          <a:prstGeom prst="rect">
            <a:avLst/>
          </a:prstGeom>
          <a:ln w="0">
            <a:noFill/>
          </a:ln>
        </p:spPr>
      </p:pic>
      <p:pic>
        <p:nvPicPr>
          <p:cNvPr id="1110" name="Picture 1" descr=""/>
          <p:cNvPicPr/>
          <p:nvPr/>
        </p:nvPicPr>
        <p:blipFill>
          <a:blip r:embed="rId4"/>
          <a:stretch/>
        </p:blipFill>
        <p:spPr>
          <a:xfrm>
            <a:off x="468360" y="1916280"/>
            <a:ext cx="360360" cy="290520"/>
          </a:xfrm>
          <a:prstGeom prst="rect">
            <a:avLst/>
          </a:prstGeom>
          <a:ln w="0">
            <a:noFill/>
          </a:ln>
        </p:spPr>
      </p:pic>
      <p:pic>
        <p:nvPicPr>
          <p:cNvPr id="1111" name="Picture 1" descr=""/>
          <p:cNvPicPr/>
          <p:nvPr/>
        </p:nvPicPr>
        <p:blipFill>
          <a:blip r:embed="rId5"/>
          <a:stretch/>
        </p:blipFill>
        <p:spPr>
          <a:xfrm>
            <a:off x="468360" y="3673440"/>
            <a:ext cx="360360" cy="290520"/>
          </a:xfrm>
          <a:prstGeom prst="rect">
            <a:avLst/>
          </a:prstGeom>
          <a:ln w="0">
            <a:noFill/>
          </a:ln>
        </p:spPr>
      </p:pic>
      <p:pic>
        <p:nvPicPr>
          <p:cNvPr id="1112" name="Picture 1" descr=""/>
          <p:cNvPicPr/>
          <p:nvPr/>
        </p:nvPicPr>
        <p:blipFill>
          <a:blip r:embed="rId6"/>
          <a:stretch/>
        </p:blipFill>
        <p:spPr>
          <a:xfrm>
            <a:off x="468360" y="5300640"/>
            <a:ext cx="360360" cy="290520"/>
          </a:xfrm>
          <a:prstGeom prst="rect">
            <a:avLst/>
          </a:prstGeom>
          <a:ln w="0">
            <a:noFill/>
          </a:ln>
        </p:spPr>
      </p:pic>
      <p:pic>
        <p:nvPicPr>
          <p:cNvPr id="1113" name="Picture 1" descr=""/>
          <p:cNvPicPr/>
          <p:nvPr/>
        </p:nvPicPr>
        <p:blipFill>
          <a:blip r:embed="rId7"/>
          <a:stretch/>
        </p:blipFill>
        <p:spPr>
          <a:xfrm>
            <a:off x="395280" y="6140520"/>
            <a:ext cx="360360" cy="29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1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1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1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4" name="图片 1" descr=""/>
          <p:cNvPicPr/>
          <p:nvPr/>
        </p:nvPicPr>
        <p:blipFill>
          <a:blip r:embed="rId1"/>
          <a:stretch/>
        </p:blipFill>
        <p:spPr>
          <a:xfrm>
            <a:off x="82440" y="790560"/>
            <a:ext cx="8980560" cy="4979880"/>
          </a:xfrm>
          <a:prstGeom prst="rect">
            <a:avLst/>
          </a:prstGeom>
          <a:ln w="0">
            <a:noFill/>
          </a:ln>
        </p:spPr>
      </p:pic>
      <p:pic>
        <p:nvPicPr>
          <p:cNvPr id="1115" name="图片 2" descr=""/>
          <p:cNvPicPr/>
          <p:nvPr/>
        </p:nvPicPr>
        <p:blipFill>
          <a:blip r:embed="rId2"/>
          <a:stretch/>
        </p:blipFill>
        <p:spPr>
          <a:xfrm>
            <a:off x="173160" y="5770440"/>
            <a:ext cx="4733640" cy="304920"/>
          </a:xfrm>
          <a:prstGeom prst="rect">
            <a:avLst/>
          </a:prstGeom>
          <a:ln w="0">
            <a:noFill/>
          </a:ln>
        </p:spPr>
      </p:pic>
      <p:pic>
        <p:nvPicPr>
          <p:cNvPr id="1116" name="Picture 1" descr=""/>
          <p:cNvPicPr/>
          <p:nvPr/>
        </p:nvPicPr>
        <p:blipFill>
          <a:blip r:embed="rId3"/>
          <a:stretch/>
        </p:blipFill>
        <p:spPr>
          <a:xfrm>
            <a:off x="2195640" y="1216080"/>
            <a:ext cx="1728720" cy="290520"/>
          </a:xfrm>
          <a:prstGeom prst="rect">
            <a:avLst/>
          </a:prstGeom>
          <a:ln w="0">
            <a:noFill/>
          </a:ln>
        </p:spPr>
      </p:pic>
      <p:pic>
        <p:nvPicPr>
          <p:cNvPr id="1117" name="Picture 1" descr=""/>
          <p:cNvPicPr/>
          <p:nvPr/>
        </p:nvPicPr>
        <p:blipFill>
          <a:blip r:embed="rId4"/>
          <a:stretch/>
        </p:blipFill>
        <p:spPr>
          <a:xfrm>
            <a:off x="2411280" y="1628640"/>
            <a:ext cx="1729080" cy="290520"/>
          </a:xfrm>
          <a:prstGeom prst="rect">
            <a:avLst/>
          </a:prstGeom>
          <a:ln w="0">
            <a:noFill/>
          </a:ln>
        </p:spPr>
      </p:pic>
      <p:pic>
        <p:nvPicPr>
          <p:cNvPr id="1118" name="Picture 1" descr=""/>
          <p:cNvPicPr/>
          <p:nvPr/>
        </p:nvPicPr>
        <p:blipFill>
          <a:blip r:embed="rId5"/>
          <a:stretch/>
        </p:blipFill>
        <p:spPr>
          <a:xfrm>
            <a:off x="2340000" y="2050920"/>
            <a:ext cx="1728720" cy="290520"/>
          </a:xfrm>
          <a:prstGeom prst="rect">
            <a:avLst/>
          </a:prstGeom>
          <a:ln w="0">
            <a:noFill/>
          </a:ln>
        </p:spPr>
      </p:pic>
      <p:pic>
        <p:nvPicPr>
          <p:cNvPr id="1119" name="Picture 1" descr=""/>
          <p:cNvPicPr/>
          <p:nvPr/>
        </p:nvPicPr>
        <p:blipFill>
          <a:blip r:embed="rId6"/>
          <a:stretch/>
        </p:blipFill>
        <p:spPr>
          <a:xfrm>
            <a:off x="3276720" y="2470320"/>
            <a:ext cx="1728720" cy="290520"/>
          </a:xfrm>
          <a:prstGeom prst="rect">
            <a:avLst/>
          </a:prstGeom>
          <a:ln w="0">
            <a:noFill/>
          </a:ln>
        </p:spPr>
      </p:pic>
      <p:pic>
        <p:nvPicPr>
          <p:cNvPr id="1120" name="Picture 1" descr=""/>
          <p:cNvPicPr/>
          <p:nvPr/>
        </p:nvPicPr>
        <p:blipFill>
          <a:blip r:embed="rId7"/>
          <a:stretch/>
        </p:blipFill>
        <p:spPr>
          <a:xfrm>
            <a:off x="2195640" y="2890800"/>
            <a:ext cx="1728720" cy="290520"/>
          </a:xfrm>
          <a:prstGeom prst="rect">
            <a:avLst/>
          </a:prstGeom>
          <a:ln w="0">
            <a:noFill/>
          </a:ln>
        </p:spPr>
      </p:pic>
      <p:pic>
        <p:nvPicPr>
          <p:cNvPr id="1121" name="Picture 1" descr=""/>
          <p:cNvPicPr/>
          <p:nvPr/>
        </p:nvPicPr>
        <p:blipFill>
          <a:blip r:embed="rId8"/>
          <a:stretch/>
        </p:blipFill>
        <p:spPr>
          <a:xfrm>
            <a:off x="2411280" y="3732120"/>
            <a:ext cx="1081080" cy="290520"/>
          </a:xfrm>
          <a:prstGeom prst="rect">
            <a:avLst/>
          </a:prstGeom>
          <a:ln w="0">
            <a:noFill/>
          </a:ln>
        </p:spPr>
      </p:pic>
      <p:pic>
        <p:nvPicPr>
          <p:cNvPr id="1122" name="Picture 1" descr=""/>
          <p:cNvPicPr/>
          <p:nvPr/>
        </p:nvPicPr>
        <p:blipFill>
          <a:blip r:embed="rId9"/>
          <a:stretch/>
        </p:blipFill>
        <p:spPr>
          <a:xfrm>
            <a:off x="6443640" y="3738600"/>
            <a:ext cx="1081080" cy="290520"/>
          </a:xfrm>
          <a:prstGeom prst="rect">
            <a:avLst/>
          </a:prstGeom>
          <a:ln w="0">
            <a:noFill/>
          </a:ln>
        </p:spPr>
      </p:pic>
      <p:pic>
        <p:nvPicPr>
          <p:cNvPr id="1123" name="Picture 1" descr=""/>
          <p:cNvPicPr/>
          <p:nvPr/>
        </p:nvPicPr>
        <p:blipFill>
          <a:blip r:embed="rId10"/>
          <a:stretch/>
        </p:blipFill>
        <p:spPr>
          <a:xfrm>
            <a:off x="2843280" y="4146480"/>
            <a:ext cx="1081080" cy="290520"/>
          </a:xfrm>
          <a:prstGeom prst="rect">
            <a:avLst/>
          </a:prstGeom>
          <a:ln w="0">
            <a:noFill/>
          </a:ln>
        </p:spPr>
      </p:pic>
      <p:pic>
        <p:nvPicPr>
          <p:cNvPr id="1124" name="Picture 1" descr=""/>
          <p:cNvPicPr/>
          <p:nvPr/>
        </p:nvPicPr>
        <p:blipFill>
          <a:blip r:embed="rId11"/>
          <a:stretch/>
        </p:blipFill>
        <p:spPr>
          <a:xfrm>
            <a:off x="2987640" y="4994280"/>
            <a:ext cx="504720" cy="290520"/>
          </a:xfrm>
          <a:prstGeom prst="rect">
            <a:avLst/>
          </a:prstGeom>
          <a:ln w="0">
            <a:noFill/>
          </a:ln>
        </p:spPr>
      </p:pic>
      <p:pic>
        <p:nvPicPr>
          <p:cNvPr id="1125" name="Picture 1" descr=""/>
          <p:cNvPicPr/>
          <p:nvPr/>
        </p:nvPicPr>
        <p:blipFill>
          <a:blip r:embed="rId12"/>
          <a:stretch/>
        </p:blipFill>
        <p:spPr>
          <a:xfrm>
            <a:off x="2411280" y="5416560"/>
            <a:ext cx="1152720" cy="290520"/>
          </a:xfrm>
          <a:prstGeom prst="rect">
            <a:avLst/>
          </a:prstGeom>
          <a:ln w="0">
            <a:noFill/>
          </a:ln>
        </p:spPr>
      </p:pic>
      <p:pic>
        <p:nvPicPr>
          <p:cNvPr id="1126" name="Picture 1" descr=""/>
          <p:cNvPicPr/>
          <p:nvPr/>
        </p:nvPicPr>
        <p:blipFill>
          <a:blip r:embed="rId13"/>
          <a:stretch/>
        </p:blipFill>
        <p:spPr>
          <a:xfrm>
            <a:off x="3059280" y="5734080"/>
            <a:ext cx="865080" cy="29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500"/>
                                        <p:tgtEl>
                                          <p:spTgt spid="1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500"/>
                                        <p:tgtEl>
                                          <p:spTgt spid="1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500"/>
                                        <p:tgtEl>
                                          <p:spTgt spid="1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500"/>
                                        <p:tgtEl>
                                          <p:spTgt spid="1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500"/>
                                        <p:tgtEl>
                                          <p:spTgt spid="1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8" dur="500"/>
                                        <p:tgtEl>
                                          <p:spTgt spid="1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3" dur="500"/>
                                        <p:tgtEl>
                                          <p:spTgt spid="1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8" dur="500"/>
                                        <p:tgtEl>
                                          <p:spTgt spid="1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3" dur="500"/>
                                        <p:tgtEl>
                                          <p:spTgt spid="1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8" dur="500"/>
                                        <p:tgtEl>
                                          <p:spTgt spid="1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3" dur="500"/>
                                        <p:tgtEl>
                                          <p:spTgt spid="1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7" name="图片 1" descr=""/>
          <p:cNvPicPr/>
          <p:nvPr/>
        </p:nvPicPr>
        <p:blipFill>
          <a:blip r:embed="rId1"/>
          <a:stretch/>
        </p:blipFill>
        <p:spPr>
          <a:xfrm>
            <a:off x="104760" y="1241280"/>
            <a:ext cx="6753240" cy="4579920"/>
          </a:xfrm>
          <a:prstGeom prst="rect">
            <a:avLst/>
          </a:prstGeom>
          <a:ln w="0">
            <a:noFill/>
          </a:ln>
        </p:spPr>
      </p:pic>
      <p:pic>
        <p:nvPicPr>
          <p:cNvPr id="1128" name="图片 2" descr=""/>
          <p:cNvPicPr/>
          <p:nvPr/>
        </p:nvPicPr>
        <p:blipFill>
          <a:blip r:embed="rId2"/>
          <a:stretch/>
        </p:blipFill>
        <p:spPr>
          <a:xfrm>
            <a:off x="6943680" y="1011240"/>
            <a:ext cx="1733760" cy="4694400"/>
          </a:xfrm>
          <a:prstGeom prst="rect">
            <a:avLst/>
          </a:prstGeom>
          <a:ln w="0">
            <a:noFill/>
          </a:ln>
        </p:spPr>
      </p:pic>
      <p:pic>
        <p:nvPicPr>
          <p:cNvPr id="1129" name="Picture 1" descr=""/>
          <p:cNvPicPr/>
          <p:nvPr/>
        </p:nvPicPr>
        <p:blipFill>
          <a:blip r:embed="rId3"/>
          <a:stretch/>
        </p:blipFill>
        <p:spPr>
          <a:xfrm>
            <a:off x="2484360" y="2050920"/>
            <a:ext cx="2303640" cy="290520"/>
          </a:xfrm>
          <a:prstGeom prst="rect">
            <a:avLst/>
          </a:prstGeom>
          <a:ln w="0">
            <a:noFill/>
          </a:ln>
        </p:spPr>
      </p:pic>
      <p:pic>
        <p:nvPicPr>
          <p:cNvPr id="1130" name="Picture 1" descr=""/>
          <p:cNvPicPr/>
          <p:nvPr/>
        </p:nvPicPr>
        <p:blipFill>
          <a:blip r:embed="rId4"/>
          <a:stretch/>
        </p:blipFill>
        <p:spPr>
          <a:xfrm>
            <a:off x="1187280" y="2890800"/>
            <a:ext cx="936720" cy="290520"/>
          </a:xfrm>
          <a:prstGeom prst="rect">
            <a:avLst/>
          </a:prstGeom>
          <a:ln w="0">
            <a:noFill/>
          </a:ln>
        </p:spPr>
      </p:pic>
      <p:pic>
        <p:nvPicPr>
          <p:cNvPr id="1131" name="Picture 1" descr=""/>
          <p:cNvPicPr/>
          <p:nvPr/>
        </p:nvPicPr>
        <p:blipFill>
          <a:blip r:embed="rId5"/>
          <a:stretch/>
        </p:blipFill>
        <p:spPr>
          <a:xfrm>
            <a:off x="3222720" y="2895480"/>
            <a:ext cx="936360" cy="290520"/>
          </a:xfrm>
          <a:prstGeom prst="rect">
            <a:avLst/>
          </a:prstGeom>
          <a:ln w="0">
            <a:noFill/>
          </a:ln>
        </p:spPr>
      </p:pic>
      <p:pic>
        <p:nvPicPr>
          <p:cNvPr id="1132" name="Picture 1" descr=""/>
          <p:cNvPicPr/>
          <p:nvPr/>
        </p:nvPicPr>
        <p:blipFill>
          <a:blip r:embed="rId6"/>
          <a:stretch/>
        </p:blipFill>
        <p:spPr>
          <a:xfrm>
            <a:off x="2124000" y="3735360"/>
            <a:ext cx="2016360" cy="290520"/>
          </a:xfrm>
          <a:prstGeom prst="rect">
            <a:avLst/>
          </a:prstGeom>
          <a:ln w="0">
            <a:noFill/>
          </a:ln>
        </p:spPr>
      </p:pic>
      <p:pic>
        <p:nvPicPr>
          <p:cNvPr id="1133" name="Picture 1" descr=""/>
          <p:cNvPicPr/>
          <p:nvPr/>
        </p:nvPicPr>
        <p:blipFill>
          <a:blip r:embed="rId7"/>
          <a:stretch/>
        </p:blipFill>
        <p:spPr>
          <a:xfrm>
            <a:off x="1042920" y="4572000"/>
            <a:ext cx="649440" cy="290520"/>
          </a:xfrm>
          <a:prstGeom prst="rect">
            <a:avLst/>
          </a:prstGeom>
          <a:ln w="0">
            <a:noFill/>
          </a:ln>
        </p:spPr>
      </p:pic>
      <p:pic>
        <p:nvPicPr>
          <p:cNvPr id="1134" name="Picture 1" descr=""/>
          <p:cNvPicPr/>
          <p:nvPr/>
        </p:nvPicPr>
        <p:blipFill>
          <a:blip r:embed="rId8"/>
          <a:stretch/>
        </p:blipFill>
        <p:spPr>
          <a:xfrm>
            <a:off x="3924360" y="4572000"/>
            <a:ext cx="1511280" cy="290520"/>
          </a:xfrm>
          <a:prstGeom prst="rect">
            <a:avLst/>
          </a:prstGeom>
          <a:ln w="0">
            <a:noFill/>
          </a:ln>
        </p:spPr>
      </p:pic>
      <p:pic>
        <p:nvPicPr>
          <p:cNvPr id="1135" name="Picture 1" descr=""/>
          <p:cNvPicPr/>
          <p:nvPr/>
        </p:nvPicPr>
        <p:blipFill>
          <a:blip r:embed="rId9"/>
          <a:stretch/>
        </p:blipFill>
        <p:spPr>
          <a:xfrm>
            <a:off x="1258920" y="5402160"/>
            <a:ext cx="936720" cy="290520"/>
          </a:xfrm>
          <a:prstGeom prst="rect">
            <a:avLst/>
          </a:prstGeom>
          <a:ln w="0">
            <a:noFill/>
          </a:ln>
        </p:spPr>
      </p:pic>
      <p:pic>
        <p:nvPicPr>
          <p:cNvPr id="1136" name="Picture 1" descr=""/>
          <p:cNvPicPr/>
          <p:nvPr/>
        </p:nvPicPr>
        <p:blipFill>
          <a:blip r:embed="rId10"/>
          <a:stretch/>
        </p:blipFill>
        <p:spPr>
          <a:xfrm>
            <a:off x="3851280" y="5416560"/>
            <a:ext cx="936720" cy="29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0" dur="500"/>
                                        <p:tgtEl>
                                          <p:spTgt spid="1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5" dur="500"/>
                                        <p:tgtEl>
                                          <p:spTgt spid="1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0" dur="500"/>
                                        <p:tgtEl>
                                          <p:spTgt spid="1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5" dur="500"/>
                                        <p:tgtEl>
                                          <p:spTgt spid="1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0" dur="500"/>
                                        <p:tgtEl>
                                          <p:spTgt spid="1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5" dur="500"/>
                                        <p:tgtEl>
                                          <p:spTgt spid="1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0" dur="500"/>
                                        <p:tgtEl>
                                          <p:spTgt spid="1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5" dur="500"/>
                                        <p:tgtEl>
                                          <p:spTgt spid="1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加冕成王</cp:lastModifiedBy>
  <dcterms:modified xsi:type="dcterms:W3CDTF">2020-07-17T02:35:44Z</dcterms:modified>
  <cp:revision>2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828</vt:lpwstr>
  </property>
</Properties>
</file>